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A28-0FD8-4647-BC7F-81629ECA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CAB-2E9C-42E9-92E1-64915233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639D-5481-4902-AA7E-1D9B8A43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AB0-9125-43DD-B3D2-B03CDDE3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5C6-D9FE-4633-BE07-19BA2D27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DBA4-5979-41D2-82D9-498670D8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AF45-14A8-4FE2-831C-8812F620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A816-8540-4026-8818-9F9AB3E4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D941-4FD8-437F-8BAF-A4E5EC5C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10D-2C6A-42FD-B384-86A40D1F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693E-5C22-4CAE-BCFC-087FFF55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8959-2327-4CDE-BD59-EC9B27E4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5D8C-056D-4D1E-9F03-644795FFC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9:24:34Z</dcterms:created>
  <dc:creator> </dc:creator>
  <dc:description/>
  <dc:language>en-US</dc:language>
  <cp:lastModifiedBy> </cp:lastModifiedBy>
  <dcterms:modified xsi:type="dcterms:W3CDTF">2008-11-24T19:24:41Z</dcterms:modified>
  <cp:revision>1</cp:revision>
  <dc:subject/>
  <dc:title>Slide 1</dc:title>
</cp:coreProperties>
</file>